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0F7-1247-446C-A4F6-FB87B082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DDE-EA8F-41A5-A470-253ACDF2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D86-4969-4960-88DA-3478A4D1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5C2-C903-4D89-839B-EDE0E121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6FF-26E7-4B62-9A8D-3A39AF2F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88B-51A7-4CD7-A5B4-47F5BB40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C09-DFB0-4A32-BF4C-F601A762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47D-E4F2-4226-B484-4F94F879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6AC-3EFC-4FC7-BE8C-3D66C787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6D1-A956-47C5-84C7-924FD3B8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523-DADC-4A52-92EB-1D7BFBC9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5A9-BB04-40DC-9E9D-B1862711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FBEA-75DF-434A-9E9B-3C8086DEB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562040"/>
            <a:ext cx="609624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1746360"/>
            <a:ext cx="82072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Individuālais projekts Nr.LV0024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lv-LV" sz="3600" spc="-1" strike="noStrike">
                <a:solidFill>
                  <a:srgbClr val="333399"/>
                </a:solidFill>
                <a:latin typeface="Arial"/>
              </a:rPr>
              <a:t>Latvijas probācijas un ieslodzījuma vietu sistēmas personāla kapacitātes celšana” 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Mihails Papsujevič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vadītāj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47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jekta īstenotājs un partn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2224080"/>
            <a:ext cx="885672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Īstenotājs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 u="sng">
                <a:solidFill>
                  <a:srgbClr val="333399"/>
                </a:solidFill>
                <a:uFillTx/>
                <a:latin typeface="Arial"/>
              </a:rPr>
              <a:t>Valsts probācijas dienest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Partneri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333399"/>
                </a:solidFill>
                <a:latin typeface="Arial"/>
              </a:rPr>
              <a:t>- Norvēģijas Nacionālais mediācijas dienest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333399"/>
                </a:solidFill>
                <a:latin typeface="Arial"/>
              </a:rPr>
              <a:t>- Ieslodzījuma vietu pārvalde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1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mērķ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probācijas sistēmā un ieslodzījuma vietās nodarbināto kompetences un darba kvalitātes paaugstinā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vienotas pieejas veidošana apmācību un pētnieciskā darba organizēšanā Valsts probācijas dienestā un Ieslodzījuma vietu pārvaldē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Finansējums – 869 996 EUR 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(85% Norvēģijas valdības finanšu instruments, 15% Latvijas valsts finansējums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4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plānotie rezultā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35 apmācību semināru organizēšan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548 probācijas dienesta un ieslodzījuma vietu sistēmas darbinieku apmācīb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3 apmācību programmu izstrāde probācijas un ieslodzījuma vietu sistēmas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mācību vizīšu organizēšana 71 darbiniek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koncepcijas projekta izstrāde par pētniecības un apmācību jautājumu attīstību probācijas un ieslodzījuma vietu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 Valsts probācijas dienesta un Ieslodzījuma vietu pārvaldes pētījumu plānu 2010. – 2013. gad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īstenot 3 pētījumu iniciatīva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7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sasnieg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i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54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apmācību seminār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apmācīti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916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probācijas dienesta un ieslodzījuma vietu sistēmas darbiniek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as 3 apmācību programmas probācijas un ieslodzījuma vietu sistēmas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mācību vizītes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85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s koncepcijas projekts par pētniecības un apmācību jautājumu attīstību probācijas un ieslodzījuma vietu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s Valsts probācijas dienesta un Ieslodzījuma vietu pārvaldes pētījumu plāns 2010. – 2013. gad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īstenotas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5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pētījumu iniciatīva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0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ozīmīgākie ieguv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Apmācības: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16 darbinieki apmācīti par ,,Motivējošās intervēšanas” metodes lektoriem – un māca citus darbiniekus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mācību vizītē gūtās atziņas par citu ES valstu pieredzi sabiedrības iesaistē darbā ar likumpārkāpējiem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izstrādātas apmācību programmas probācijas un ieslodzījuma vietu sistēmas darbiniekiem un īstenota atsevišķu šo programmu moduļu satura izstrāde un aprobācija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sadarbībā ar Norvēģijas Nacionālo mediācijas dienestu pilnveidots Latvijas brīvprātīgo izlīguma starpnieku apmācības process 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Pētījumi: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Recidīva rādītāji, to noteikšanas kārtība un piemērošana Valsts probācijas dienesta un Ieslodzījumu vietu pārvaldes darbā”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Rezultatīvo rādītāju sistēmas un datu analīzes prakses izpēte Ieslodzījuma vietu pārvaldē un Valsts probācijas dienestā”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3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382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mihailsp</cp:lastModifiedBy>
  <dcterms:modified xsi:type="dcterms:W3CDTF">2011-01-05T09:51:49Z</dcterms:modified>
  <cp:revision>24</cp:revision>
  <dc:subject/>
  <dc:title>Slide 1</dc:title>
</cp:coreProperties>
</file>